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C9B-AAF8-43C3-B5C7-11A11F96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C8D-64B7-4D42-86F5-16140BA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37C-72D8-43C0-8D1F-81ED62B5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484-B494-454E-9A4D-2A062C11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4DB-8C69-4DF4-8434-BFEFEFA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C1-16A8-460D-85A3-8691BCC1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A2-674D-433B-A899-1ABA7BFA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C2E-0DEB-423C-808C-8824B5F5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CFB-692F-465F-B27F-3AF07285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DEF-7926-412D-BADD-67CDA09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067-9F6C-4615-8818-3912CE80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323-35E8-4CF9-9BD2-1152458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2E4F-9972-42AD-82C0-B480E84A2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52640"/>
            <a:ext cx="78469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одель навчального процесу ВН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8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еценко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Інна Вячеслав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.т.н., доцент кафедри ком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терних технолог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411336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каський державний технолог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465300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v66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3284640"/>
            <a:ext cx="8137440" cy="29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ідмоде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семест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навчального процесу дисциплі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контролю відвід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контролю заборгова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переведення до наступного семест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виконання навчального плану та вручення дипл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1640" y="944640"/>
            <a:ext cx="8136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дель навчального процесу спеціа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ідслідковувати виконання навчального плану спеціа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інювати якість навчального процесу зі спеціа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ійснювати управління навчальним проц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истема імітаційного моделюва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RSIM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1640" y="944640"/>
            <a:ext cx="8136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31640" y="1412640"/>
            <a:ext cx="8110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є зручний і зрозумілий графічний інтерфейс введення моделі, що формалізована засобами сітки Петр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інформаційних зв’язків між елементами модел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формул для визначення кількості зв’яз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імацію імітаційного моделювання (для цілей верифікації моделі та навчальних ціл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тний алгоритм іміт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я результатів моделювання в графічному вигля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260280"/>
            <a:ext cx="8229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дель навчального проц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>
            <a:lum contrast="6000"/>
          </a:blip>
          <a:srcRect l="1003" t="10284" r="3743" b="8937"/>
          <a:stretch/>
        </p:blipFill>
        <p:spPr>
          <a:xfrm>
            <a:off x="287280" y="907920"/>
            <a:ext cx="8532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контролю відві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504" t="12959" r="3591" b="12959"/>
          <a:stretch/>
        </p:blipFill>
        <p:spPr>
          <a:xfrm>
            <a:off x="684360" y="1015920"/>
            <a:ext cx="788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прийняття рішення про переведення до наступного сем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1691" t="13380" r="2638" b="15955"/>
          <a:stretch/>
        </p:blipFill>
        <p:spPr>
          <a:xfrm>
            <a:off x="304920" y="1736640"/>
            <a:ext cx="8551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контролю кількості заборгова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2925" t="16906" r="6347" b="20608"/>
          <a:stretch/>
        </p:blipFill>
        <p:spPr>
          <a:xfrm>
            <a:off x="395280" y="1628640"/>
            <a:ext cx="83818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843440" y="3492360"/>
            <a:ext cx="15840" cy="54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33336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модель навчання дисциплі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454" t="13142" r="1504" b="14293"/>
          <a:stretch/>
        </p:blipFill>
        <p:spPr>
          <a:xfrm>
            <a:off x="216000" y="1268280"/>
            <a:ext cx="8753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Цілі моделю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376280"/>
            <a:ext cx="781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уміння (детальне і поглиблене) процесу навчальної діяльності студента у структурі ВН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впливу ІАСКО на навчальну діяльність студента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характеристик навчального процесу при заданих значення параметрів та змін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птимізація параметрів управління системи контролю та оцінювання навчальної діяльності студентів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ення оптимальної стратегії прийняття рішень щодо поліпшення якості навчального процесу ВН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мінні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453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хідні змінні моде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П ВН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спеціаль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пеціальност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студентів, що навчають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дисциплін у кожному семест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а кількість заборгова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ження часу для ліквідації заборгова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жної дисциплі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т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годин лекцій, практичних та лабораторних робіт в кожній тем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явність КП, КР або РГ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тична кількість пропусків заня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мови, які необхідні для допуску до іспиту(заліку): захист усіх лабораторних тем, усіх тем, успішний контроль відвідування, успішний контроль попередніх заборгова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декан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мови, при яких приймається рішення про відрахування студента: вичерпана критична кількість заборгованостей, вичерпаний час на перездач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час, необхідний для прийняття рішення про відраху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час, необхідний для прийняття рішення про допуск(недопуск) студента до сесії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студ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пропуску занятт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невдалого захисту лабораторної роботи, те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ймовірність неуспішного складання заліку, іспи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1280" y="981000"/>
            <a:ext cx="363564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ихідні змінні моде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НП ВН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відрахованих з і-ого семестру студентів (загалом, по факультетам  і по спеціальностя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инаміка змінювання кількості відрахова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кожної дисциплі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ередня кількість вивчених одним студентом тем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складності дисципліни: середня кількість перездач іспиту (заліку), середня кількість перездач лабораторної роботи, те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деканат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якості навчання: середня кількість перездач в розрахунку на одного студента (для дисципліни, для кафедри…), середня кількість заборгованостей одного студента,  ймовірність відрахува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студентів, які не пройшли успішно контроль відвідування (по дисциплінам та по спеціальностям), у відношенні до загальної кількості студенті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ількість студентів, яка переведена на наступний семест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ля студ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ники якості навчання: успішність навчання (за навчальним планом чи із запізненням), кількість перездач, кількість недопуск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0" y="368280"/>
            <a:ext cx="706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алізація процесів функціонування мереж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ми Пет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61120" y="1252800"/>
            <a:ext cx="6106680" cy="4534200"/>
            <a:chOff x="1761120" y="1252800"/>
            <a:chExt cx="6106680" cy="4534200"/>
          </a:xfrm>
        </p:grpSpPr>
        <p:sp>
          <p:nvSpPr>
            <p:cNvPr id="52" name=""/>
            <p:cNvSpPr/>
            <p:nvPr/>
          </p:nvSpPr>
          <p:spPr>
            <a:xfrm>
              <a:off x="1761120" y="1252800"/>
              <a:ext cx="6004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Елементи мережі Пет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17120" y="1927080"/>
              <a:ext cx="8280" cy="29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6720" y="1880640"/>
              <a:ext cx="116208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ех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06720" y="2420280"/>
              <a:ext cx="127404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озиці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3760" y="2504520"/>
              <a:ext cx="314640" cy="27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6720" y="3003840"/>
              <a:ext cx="7635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у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8720" y="3625560"/>
              <a:ext cx="16743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Фішка (одн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668040" y="3057480"/>
              <a:ext cx="1306440" cy="310320"/>
              <a:chOff x="3668040" y="3057480"/>
              <a:chExt cx="1306440" cy="310320"/>
            </a:xfrm>
          </p:grpSpPr>
          <p:sp>
            <p:nvSpPr>
              <p:cNvPr id="60" name=""/>
              <p:cNvSpPr/>
              <p:nvPr/>
            </p:nvSpPr>
            <p:spPr>
              <a:xfrm>
                <a:off x="3668040" y="305748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61640" y="307656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30440" y="3057480"/>
                <a:ext cx="0" cy="31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6920" y="321480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30440" y="313488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30440" y="327096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27760" y="3693960"/>
              <a:ext cx="312840" cy="275040"/>
              <a:chOff x="4127760" y="3693960"/>
              <a:chExt cx="312840" cy="275040"/>
            </a:xfrm>
          </p:grpSpPr>
          <p:sp>
            <p:nvSpPr>
              <p:cNvPr id="67" name=""/>
              <p:cNvSpPr/>
              <p:nvPr/>
            </p:nvSpPr>
            <p:spPr>
              <a:xfrm>
                <a:off x="4127760" y="3693960"/>
                <a:ext cx="312840" cy="275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0600" y="3812040"/>
                <a:ext cx="45360" cy="39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098080" y="4399560"/>
              <a:ext cx="16578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агато фіш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89960" y="4452480"/>
              <a:ext cx="428760" cy="34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2800" y="1918800"/>
              <a:ext cx="1709280" cy="3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поді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12800" y="2420280"/>
              <a:ext cx="1786680" cy="36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умов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12800" y="2973600"/>
              <a:ext cx="2541960" cy="54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зв’я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іж подіями та умов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8080" y="4915800"/>
              <a:ext cx="1483560" cy="37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Багато ду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927960" y="4862520"/>
              <a:ext cx="774360" cy="320760"/>
              <a:chOff x="3927960" y="4862520"/>
              <a:chExt cx="774360" cy="320760"/>
            </a:xfrm>
          </p:grpSpPr>
          <p:sp>
            <p:nvSpPr>
              <p:cNvPr id="76" name=""/>
              <p:cNvSpPr/>
              <p:nvPr/>
            </p:nvSpPr>
            <p:spPr>
              <a:xfrm>
                <a:off x="4170960" y="4862520"/>
                <a:ext cx="293760" cy="25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27960" y="5125320"/>
                <a:ext cx="77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244760" y="5076720"/>
                <a:ext cx="8028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212800" y="3588840"/>
              <a:ext cx="26550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викон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(або не виконання) ум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8280" y="5477760"/>
              <a:ext cx="583848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4680" y="4407120"/>
              <a:ext cx="2507040" cy="52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багатократне виконання ум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3320" y="4923360"/>
              <a:ext cx="2507040" cy="52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начає вели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ількість зв’язк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751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ідовність дій, виконуваних для формалізації системи засобами мережі Пет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376280"/>
            <a:ext cx="7777080" cy="45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ля того, щоб представити систему засобами мереж Петрі потрібн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ділити події, що виникають в системі, і поставити у відповідність кожній події перехід мережі Петрі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ясувати умови, при яких виникає кожна з подій, і поставити у відповідність кожній умові позицію мережі Петр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кількість фішок у позиції мережі Петрі, що символізує виконання умов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єднати позиції та переходи відповідно до логіки виникнення подій у системі : якщо умова передує виконанню події, то з’єднати в мережі Петрі відповідну позицію з відповідним переходом; якщо умова являється наслідком виконання події, то з’єднати в мережі Петрі відповідний перехід з відповідною позицією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’ясувати зміни, які відбуваються в системі при здійсненні кожної події, і поставити у відповідність змінам переміщення визначеної кількості фішок із позицій в переходи та з переходів у позиції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числові значення часових затримок в переходах мережі Петр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изначити стан мережі Петрі на початку моделюванн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39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ережі Петрі з конфліктними переход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и розв’язування конфлік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іоритетний (явний та неявний спосіб завдання пріоритет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ймовірнісний (з рівною та указаною ймовірніст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0360" y="4581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51520" y="2942280"/>
            <a:ext cx="5294880" cy="2516400"/>
            <a:chOff x="1451520" y="2942280"/>
            <a:chExt cx="5294880" cy="2516400"/>
          </a:xfrm>
        </p:grpSpPr>
        <p:grpSp>
          <p:nvGrpSpPr>
            <p:cNvPr id="89" name=""/>
            <p:cNvGrpSpPr/>
            <p:nvPr/>
          </p:nvGrpSpPr>
          <p:grpSpPr>
            <a:xfrm>
              <a:off x="1451520" y="2942280"/>
              <a:ext cx="5294880" cy="2516400"/>
              <a:chOff x="1451520" y="2942280"/>
              <a:chExt cx="5294880" cy="2516400"/>
            </a:xfrm>
          </p:grpSpPr>
          <p:sp>
            <p:nvSpPr>
              <p:cNvPr id="90" name=""/>
              <p:cNvSpPr/>
              <p:nvPr/>
            </p:nvSpPr>
            <p:spPr>
              <a:xfrm>
                <a:off x="4232160" y="3753000"/>
                <a:ext cx="27108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0,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04080" y="4193280"/>
                <a:ext cx="27288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32560" y="2957040"/>
                <a:ext cx="1210320" cy="17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04040" y="3543840"/>
                <a:ext cx="839160" cy="52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ількість переведени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75040" y="3941640"/>
                <a:ext cx="25092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23680" y="4067640"/>
                <a:ext cx="364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41680" y="3879720"/>
                <a:ext cx="0" cy="38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072520" y="3906720"/>
                <a:ext cx="251640" cy="252360"/>
                <a:chOff x="2072520" y="3906720"/>
                <a:chExt cx="251640" cy="2523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072520" y="3906720"/>
                  <a:ext cx="251640" cy="25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196720" y="3997440"/>
                  <a:ext cx="3600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2321640" y="4095720"/>
                <a:ext cx="33768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39640" y="400464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07200" y="3656160"/>
                <a:ext cx="1131120" cy="18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0640" y="4236120"/>
                <a:ext cx="58644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51520" y="5017320"/>
                <a:ext cx="5294880" cy="44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183560" y="3656160"/>
                <a:ext cx="438840" cy="877680"/>
                <a:chOff x="4183560" y="3656160"/>
                <a:chExt cx="438840" cy="87768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4190760" y="3849120"/>
                  <a:ext cx="397440" cy="20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183560" y="4087440"/>
                  <a:ext cx="4118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22400" y="3656160"/>
                  <a:ext cx="0" cy="381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09080" y="41529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414960" y="3173760"/>
                <a:ext cx="252360" cy="252360"/>
                <a:chOff x="3414960" y="3173760"/>
                <a:chExt cx="252360" cy="2523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414960" y="3173760"/>
                  <a:ext cx="252360" cy="252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39520" y="3264480"/>
                  <a:ext cx="3600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588400" y="2942280"/>
                <a:ext cx="1892160" cy="1308960"/>
                <a:chOff x="2588400" y="2942280"/>
                <a:chExt cx="1892160" cy="1308960"/>
              </a:xfrm>
            </p:grpSpPr>
            <p:sp>
              <p:nvSpPr>
                <p:cNvPr id="114" name=""/>
                <p:cNvSpPr/>
                <p:nvPr/>
              </p:nvSpPr>
              <p:spPr>
                <a:xfrm rot="2733600">
                  <a:off x="2776680" y="3132720"/>
                  <a:ext cx="91764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652" y="383"/>
                      </a:moveTo>
                      <a:arcTo wR="10800" hR="10800" stAng="-4481212" swAng="4481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652" y="383"/>
                      </a:moveTo>
                      <a:arcTo wR="10800" hR="10800" stAng="-4481212" swAng="44812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rot="18866400">
                  <a:off x="3374280" y="3147120"/>
                  <a:ext cx="91764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652" y="383"/>
                      </a:moveTo>
                      <a:arcTo wR="10800" hR="10800" stAng="-4481212" swAng="44812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652" y="383"/>
                      </a:moveTo>
                      <a:arcTo wR="10800" hR="10800" stAng="-4481212" swAng="44812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5203440" y="3739320"/>
                <a:ext cx="25092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225960" y="4067640"/>
                <a:ext cx="315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45600" y="3962880"/>
                <a:ext cx="251640" cy="25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7440" y="4067640"/>
                <a:ext cx="397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48640" y="3495240"/>
                <a:ext cx="950040" cy="16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imes New Roman"/>
                  </a:rPr>
                  <a:t>Переведени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43520" y="4053960"/>
                <a:ext cx="4212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540600" y="3878640"/>
                <a:ext cx="720" cy="39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44720" y="3836880"/>
                <a:ext cx="5587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8640" y="4536000"/>
                <a:ext cx="875160" cy="17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Не переведени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441040" y="4201200"/>
                <a:ext cx="839160" cy="52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ількість непеведених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76440" y="4208760"/>
                <a:ext cx="250920" cy="25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17720" y="4306680"/>
                <a:ext cx="56448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590560" y="4363920"/>
              <a:ext cx="162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Times New Roman"/>
                </a:rPr>
                <a:t>Прийняття ріше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режі Петрі з інформаційними зв’язк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1844640"/>
            <a:ext cx="5437440" cy="3168720"/>
            <a:chOff x="1763640" y="1844640"/>
            <a:chExt cx="5437440" cy="3168720"/>
          </a:xfrm>
        </p:grpSpPr>
        <p:sp>
          <p:nvSpPr>
            <p:cNvPr id="131" name=""/>
            <p:cNvSpPr/>
            <p:nvPr/>
          </p:nvSpPr>
          <p:spPr>
            <a:xfrm>
              <a:off x="2808000" y="2756880"/>
              <a:ext cx="36972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48200" y="2177640"/>
              <a:ext cx="1440" cy="55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134520" y="2443680"/>
              <a:ext cx="89064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202920" y="3708000"/>
              <a:ext cx="731160" cy="46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2640" y="1844640"/>
              <a:ext cx="1187640" cy="2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Успіш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7960" y="3308760"/>
              <a:ext cx="3704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3320" y="2199600"/>
              <a:ext cx="37116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4728600"/>
              <a:ext cx="264384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ритична кількість пропуск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6920" y="3181320"/>
              <a:ext cx="1341360" cy="55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онтроль відвід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1200" y="3885480"/>
              <a:ext cx="1175040" cy="28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Не успіш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05480" y="2598840"/>
              <a:ext cx="1005120" cy="26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пріори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77320" y="4085280"/>
              <a:ext cx="587160" cy="57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79800" y="3242160"/>
              <a:ext cx="1440" cy="55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65760" y="3108960"/>
              <a:ext cx="89064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71240" y="2376720"/>
              <a:ext cx="95904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02480" y="3530160"/>
              <a:ext cx="95904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10520" y="2177640"/>
              <a:ext cx="166752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ількіть пропусків м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2120" y="3308760"/>
              <a:ext cx="1758960" cy="48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Кількіть пропусків вел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клади моделювання систем управління засобами мереж Петрі з інформаційними з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зками</a:t>
            </a:r>
            <a:br>
              <a:rPr sz="20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истема управління дорожнім рухом на перехресті, керованому світлофо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9240" y="1286280"/>
            <a:ext cx="8038440" cy="5106240"/>
            <a:chOff x="669240" y="1286280"/>
            <a:chExt cx="8038440" cy="5106240"/>
          </a:xfrm>
        </p:grpSpPr>
        <p:sp>
          <p:nvSpPr>
            <p:cNvPr id="151" name=""/>
            <p:cNvSpPr/>
            <p:nvPr/>
          </p:nvSpPr>
          <p:spPr>
            <a:xfrm>
              <a:off x="2802960" y="1729440"/>
              <a:ext cx="3752640" cy="300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950440" y="1286280"/>
              <a:ext cx="2704680" cy="1403280"/>
              <a:chOff x="5950440" y="1286280"/>
              <a:chExt cx="2704680" cy="1403280"/>
            </a:xfrm>
          </p:grpSpPr>
          <p:sp>
            <p:nvSpPr>
              <p:cNvPr id="153" name=""/>
              <p:cNvSpPr/>
              <p:nvPr/>
            </p:nvSpPr>
            <p:spPr>
              <a:xfrm>
                <a:off x="5950440" y="1286280"/>
                <a:ext cx="2704680" cy="14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6199560" y="1623240"/>
                <a:ext cx="1936800" cy="948600"/>
                <a:chOff x="6199560" y="1623240"/>
                <a:chExt cx="1936800" cy="9486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466320" y="2085840"/>
                  <a:ext cx="343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44800" y="2316600"/>
                  <a:ext cx="242280" cy="255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70840" y="1730160"/>
                  <a:ext cx="92556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дходженн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79800" y="2298960"/>
                  <a:ext cx="24480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053120" y="2014560"/>
                  <a:ext cx="24876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804720" y="1965960"/>
                  <a:ext cx="0" cy="30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804720" y="2132640"/>
                  <a:ext cx="26604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19880" y="2138400"/>
                  <a:ext cx="248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889760" y="1996560"/>
                  <a:ext cx="24660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000" y="1978920"/>
                  <a:ext cx="72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05000" y="2138400"/>
                  <a:ext cx="284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6199560" y="1996560"/>
                  <a:ext cx="248040" cy="235800"/>
                  <a:chOff x="6199560" y="1996560"/>
                  <a:chExt cx="248040" cy="2358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199560" y="1996560"/>
                    <a:ext cx="248040" cy="23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288480" y="2094120"/>
                    <a:ext cx="43200" cy="4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7231680" y="1623240"/>
                  <a:ext cx="746280" cy="312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еїзд перехрест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6430680" y="2191680"/>
                  <a:ext cx="344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968080" y="1374480"/>
                <a:ext cx="2633760" cy="19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ідсистема руху автомобілів у 4-ому напрямку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004080" y="4023360"/>
              <a:ext cx="2703600" cy="1400760"/>
              <a:chOff x="6004080" y="4023360"/>
              <a:chExt cx="2703600" cy="1400760"/>
            </a:xfrm>
          </p:grpSpPr>
          <p:sp>
            <p:nvSpPr>
              <p:cNvPr id="173" name=""/>
              <p:cNvSpPr/>
              <p:nvPr/>
            </p:nvSpPr>
            <p:spPr>
              <a:xfrm>
                <a:off x="6004080" y="4023360"/>
                <a:ext cx="2703600" cy="140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6252840" y="4359600"/>
                <a:ext cx="1935720" cy="947160"/>
                <a:chOff x="6252840" y="4359600"/>
                <a:chExt cx="1935720" cy="947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519600" y="4821120"/>
                  <a:ext cx="343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97720" y="5051880"/>
                  <a:ext cx="241920" cy="25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324120" y="4466160"/>
                  <a:ext cx="9252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дходженн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33080" y="5033880"/>
                  <a:ext cx="244440" cy="25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ru-RU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06040" y="4750200"/>
                  <a:ext cx="248760" cy="235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858000" y="4701600"/>
                  <a:ext cx="0" cy="303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858000" y="4867920"/>
                  <a:ext cx="26568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72800" y="4873680"/>
                  <a:ext cx="2487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942320" y="4732200"/>
                  <a:ext cx="246240" cy="2354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621920" y="4714560"/>
                  <a:ext cx="720" cy="30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657560" y="4873680"/>
                  <a:ext cx="2844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6252840" y="4732200"/>
                  <a:ext cx="248040" cy="235440"/>
                  <a:chOff x="6252840" y="4732200"/>
                  <a:chExt cx="248040" cy="2354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6252840" y="4732200"/>
                    <a:ext cx="248040" cy="23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41760" y="4829760"/>
                    <a:ext cx="43200" cy="4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7284600" y="4359600"/>
                  <a:ext cx="745920" cy="311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еїзд перехрест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483960" y="4926960"/>
                  <a:ext cx="344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6021720" y="4111560"/>
                <a:ext cx="2632680" cy="19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ідсистема руху автомобілів у 3-ому напрямку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69240" y="1303200"/>
              <a:ext cx="2703600" cy="14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5320" y="2333880"/>
              <a:ext cx="24228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96120" y="1729440"/>
              <a:ext cx="925560" cy="17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дхо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0320" y="2315880"/>
              <a:ext cx="243720" cy="2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6920" y="1640160"/>
              <a:ext cx="746280" cy="31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їзд перехрест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918360" y="1983960"/>
              <a:ext cx="1935360" cy="317160"/>
              <a:chOff x="918360" y="1983960"/>
              <a:chExt cx="1935360" cy="31716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2243880" y="210240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751760" y="2032200"/>
                <a:ext cx="24876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48920" y="1983960"/>
                <a:ext cx="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983240" y="2149920"/>
                <a:ext cx="265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485360" y="2154960"/>
                <a:ext cx="24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918360" y="2014200"/>
                <a:ext cx="24624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484280" y="1996560"/>
                <a:ext cx="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164600" y="2154960"/>
                <a:ext cx="28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2605680" y="2014200"/>
                <a:ext cx="248040" cy="235800"/>
                <a:chOff x="2605680" y="2014200"/>
                <a:chExt cx="248040" cy="23580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2605320" y="2014200"/>
                  <a:ext cx="24804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721600" y="2111760"/>
                  <a:ext cx="43200" cy="42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2279520" y="2209320"/>
                <a:ext cx="343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87240" y="1391400"/>
              <a:ext cx="263304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руху автомобілів у 1-ому напрям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78680" y="1800720"/>
              <a:ext cx="2311200" cy="2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управлі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2332800">
              <a:off x="6280200" y="1748520"/>
              <a:ext cx="721800" cy="339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967400" y="2121480"/>
              <a:ext cx="5316120" cy="2504160"/>
              <a:chOff x="1967400" y="2121480"/>
              <a:chExt cx="5316120" cy="2504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891880" y="3258360"/>
                <a:ext cx="248760" cy="237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967400" y="2121480"/>
                <a:ext cx="5316120" cy="2504160"/>
                <a:chOff x="1967400" y="2121480"/>
                <a:chExt cx="5316120" cy="250416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rot="5328600">
                  <a:off x="3906720" y="1648800"/>
                  <a:ext cx="1607400" cy="342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825" y="1240"/>
                      </a:moveTo>
                      <a:arcTo wR="10800" hR="10800" stAng="-3736421" swAng="3831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825" y="1240"/>
                      </a:moveTo>
                      <a:arcTo wR="10800" hR="10800" stAng="-3736421" swAng="383180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1967400" y="2121480"/>
                  <a:ext cx="5316120" cy="2504160"/>
                  <a:chOff x="1967400" y="2121480"/>
                  <a:chExt cx="5316120" cy="25041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6430320" y="3115440"/>
                    <a:ext cx="853200" cy="49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є зелене світло в 3 та 4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967400" y="3151080"/>
                    <a:ext cx="88884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є зелене світло в 1 та 2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207680" y="2121480"/>
                    <a:ext cx="1031760" cy="354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жовте світл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 усіх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127920" y="3258360"/>
                    <a:ext cx="248760" cy="23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3870000" y="2494080"/>
                    <a:ext cx="1567080" cy="1744920"/>
                    <a:chOff x="3870000" y="2494080"/>
                    <a:chExt cx="1567080" cy="17449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52280" y="2494080"/>
                      <a:ext cx="720" cy="304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434920" y="3205440"/>
                      <a:ext cx="2160" cy="305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4732920" y="2670120"/>
                      <a:ext cx="671760" cy="695520"/>
                      <a:chOff x="4732920" y="2670120"/>
                      <a:chExt cx="671760" cy="69552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 rot="2755200">
                        <a:off x="4947120" y="2891160"/>
                        <a:ext cx="248040" cy="238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732920" y="2670120"/>
                        <a:ext cx="238680" cy="247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5166360" y="3117600"/>
                        <a:ext cx="238320" cy="248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733280" y="3405960"/>
                      <a:ext cx="689040" cy="680040"/>
                      <a:chOff x="4733280" y="3405960"/>
                      <a:chExt cx="689040" cy="68004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 rot="8118600">
                        <a:off x="4960440" y="3629520"/>
                        <a:ext cx="248400" cy="237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 flipH="1">
                        <a:off x="5176800" y="3405960"/>
                        <a:ext cx="245520" cy="241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 flipH="1">
                        <a:off x="4733280" y="3844440"/>
                        <a:ext cx="24588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3887280" y="3408840"/>
                      <a:ext cx="693360" cy="674280"/>
                      <a:chOff x="3887280" y="3408840"/>
                      <a:chExt cx="693360" cy="6742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 rot="13447200">
                        <a:off x="4107600" y="3634200"/>
                        <a:ext cx="248040" cy="237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 flipH="1" flipV="1">
                        <a:off x="4334040" y="3843000"/>
                        <a:ext cx="246600" cy="240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 flipH="1" flipV="1">
                        <a:off x="3887280" y="3408840"/>
                        <a:ext cx="245880" cy="240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903120" y="2655000"/>
                      <a:ext cx="696960" cy="672120"/>
                      <a:chOff x="3903120" y="2655000"/>
                      <a:chExt cx="696960" cy="67212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 rot="18957000">
                        <a:off x="4120200" y="2869560"/>
                        <a:ext cx="248400" cy="238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 flipV="1">
                        <a:off x="3903120" y="3088080"/>
                        <a:ext cx="248040" cy="239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flipV="1">
                        <a:off x="4351320" y="2655000"/>
                        <a:ext cx="248760" cy="23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stealth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4652280" y="3933720"/>
                      <a:ext cx="1440" cy="305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870000" y="3205440"/>
                      <a:ext cx="2160" cy="305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 rot="16271400">
                    <a:off x="3736080" y="1655640"/>
                    <a:ext cx="160740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 flipV="1" rot="16271400">
                    <a:off x="3921120" y="1674000"/>
                    <a:ext cx="160740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 rot="5328600">
                    <a:off x="3755160" y="1673280"/>
                    <a:ext cx="1605240" cy="342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25" y="1240"/>
                        </a:moveTo>
                        <a:arcTo wR="10800" hR="10800" stAng="-3736421" swAng="383180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25" y="1240"/>
                        </a:moveTo>
                        <a:arcTo wR="10800" hR="10800" stAng="-3736421" swAng="3831805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154040" y="4271760"/>
                    <a:ext cx="1033200" cy="353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жовте світл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 усіх 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238720" y="2867400"/>
                    <a:ext cx="871920" cy="284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елене в 3 та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158640" y="2867400"/>
                    <a:ext cx="872640" cy="284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елене в 1 та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прямка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225680" y="2955960"/>
                    <a:ext cx="47520" cy="4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016080" y="3364920"/>
                    <a:ext cx="47520" cy="47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"/>
            <p:cNvSpPr/>
            <p:nvPr/>
          </p:nvSpPr>
          <p:spPr>
            <a:xfrm rot="19267200">
              <a:off x="1939320" y="1730880"/>
              <a:ext cx="1041480" cy="37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 rot="19267200">
              <a:off x="6308280" y="1415160"/>
              <a:ext cx="42588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880" y="4019760"/>
              <a:ext cx="2703600" cy="140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16600" y="5052960"/>
              <a:ext cx="24120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67400" y="4448520"/>
              <a:ext cx="925560" cy="17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дхо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8520" y="5052960"/>
              <a:ext cx="244440" cy="2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6200" y="4360320"/>
              <a:ext cx="745200" cy="3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їзд перехрест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972000" y="4700880"/>
              <a:ext cx="1935360" cy="317160"/>
              <a:chOff x="972000" y="4700880"/>
              <a:chExt cx="1935360" cy="31716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2297520" y="4819320"/>
                <a:ext cx="343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805400" y="4749120"/>
                <a:ext cx="24876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02560" y="4700880"/>
                <a:ext cx="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036880" y="4866840"/>
                <a:ext cx="2656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539000" y="4871880"/>
                <a:ext cx="248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972000" y="4731120"/>
                <a:ext cx="246240" cy="23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1537920" y="4713480"/>
                <a:ext cx="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18240" y="4871880"/>
                <a:ext cx="28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2659320" y="4731120"/>
                <a:ext cx="248040" cy="235800"/>
                <a:chOff x="2659320" y="4731120"/>
                <a:chExt cx="248040" cy="23580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2658960" y="4731120"/>
                  <a:ext cx="248040" cy="23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775240" y="4828680"/>
                  <a:ext cx="43200" cy="42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2333160" y="4926240"/>
                <a:ext cx="343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40880" y="4108320"/>
              <a:ext cx="263304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ідсистема руху автомобілів у 2-ому напрямк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2332800">
              <a:off x="2352600" y="1278720"/>
              <a:ext cx="612720" cy="40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25" y="1240"/>
                  </a:moveTo>
                  <a:arcTo wR="10800" hR="10800" stAng="-3736421" swAng="3831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25" y="1240"/>
                  </a:moveTo>
                  <a:arcTo wR="10800" hR="10800" stAng="-3736421" swAng="3831805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2520" y="6090480"/>
              <a:ext cx="7788960" cy="30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4360" y="49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уван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запасами товарів торго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ідприємст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8960" y="1086120"/>
            <a:ext cx="6395400" cy="5271480"/>
            <a:chOff x="1218960" y="1086120"/>
            <a:chExt cx="6395400" cy="5271480"/>
          </a:xfrm>
        </p:grpSpPr>
        <p:sp>
          <p:nvSpPr>
            <p:cNvPr id="276" name=""/>
            <p:cNvSpPr/>
            <p:nvPr/>
          </p:nvSpPr>
          <p:spPr>
            <a:xfrm>
              <a:off x="1218960" y="3581280"/>
              <a:ext cx="6395400" cy="240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2840" y="4935240"/>
              <a:ext cx="863280" cy="3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достатній 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82400" y="4594320"/>
              <a:ext cx="75096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остатній 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6880" y="4253400"/>
              <a:ext cx="720" cy="25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35120" y="4064760"/>
              <a:ext cx="263700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нтроль стану запасу закінчив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27040" y="5743800"/>
              <a:ext cx="3966840" cy="18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Times New Roman"/>
                </a:rPr>
                <a:t>підсистема прийняття рішення про поповнення запа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2640" y="4713480"/>
              <a:ext cx="261360" cy="19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116880" y="4801680"/>
              <a:ext cx="135576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34800" y="4443840"/>
              <a:ext cx="172872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повнення запа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6120" y="4851720"/>
              <a:ext cx="61344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контро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2320" y="5395680"/>
              <a:ext cx="100548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іодичність контро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98000" y="4371480"/>
              <a:ext cx="46980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8520" y="3867480"/>
              <a:ext cx="1846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5920" y="1086120"/>
              <a:ext cx="4849920" cy="243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7560" y="3278520"/>
              <a:ext cx="375480" cy="14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rot="2037600">
              <a:off x="3768480" y="2301480"/>
              <a:ext cx="570600" cy="141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09" y="1571"/>
                  </a:moveTo>
                  <a:arcTo wR="10800" hR="10800" stAng="-3522659" swAng="5356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09" y="1571"/>
                  </a:moveTo>
                  <a:arcTo wR="10800" hR="10800" stAng="-3522659" swAng="5356179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3280" y="2461680"/>
              <a:ext cx="69516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чер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90840" y="3208320"/>
              <a:ext cx="380880" cy="30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795320" y="2065320"/>
              <a:ext cx="2593440" cy="1132560"/>
              <a:chOff x="1795320" y="2065320"/>
              <a:chExt cx="2593440" cy="1132560"/>
            </a:xfrm>
          </p:grpSpPr>
          <p:sp>
            <p:nvSpPr>
              <p:cNvPr id="295" name=""/>
              <p:cNvSpPr/>
              <p:nvPr/>
            </p:nvSpPr>
            <p:spPr>
              <a:xfrm>
                <a:off x="4367520" y="2222640"/>
                <a:ext cx="0" cy="25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68240" y="2251800"/>
                <a:ext cx="261720" cy="196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01600" y="2234160"/>
                <a:ext cx="0" cy="25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901600" y="2350440"/>
                <a:ext cx="5662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31040" y="2356560"/>
                <a:ext cx="65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9782600">
                <a:off x="2652120" y="2338560"/>
                <a:ext cx="922680" cy="66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377" y="116"/>
                    </a:moveTo>
                    <a:arcTo wR="10800" hR="10800" stAng="-4896348" swAng="57801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377" y="116"/>
                    </a:moveTo>
                    <a:arcTo wR="10800" hR="10800" stAng="-4896348" swAng="578015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372200">
                <a:off x="2262240" y="2376360"/>
                <a:ext cx="923400" cy="6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459" y="20"/>
                    </a:moveTo>
                    <a:arcTo wR="10800" hR="10800" stAng="-5190154" swAng="64501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459" y="20"/>
                    </a:moveTo>
                    <a:arcTo wR="10800" hR="10800" stAng="-5190154" swAng="645018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793240" y="2828160"/>
                <a:ext cx="261720" cy="196920"/>
                <a:chOff x="2793240" y="2828160"/>
                <a:chExt cx="261720" cy="1969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793240" y="2828160"/>
                  <a:ext cx="26172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87200" y="2909520"/>
                  <a:ext cx="45360" cy="35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795320" y="2065320"/>
                <a:ext cx="945000" cy="425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надійшов покупец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79720" y="1931040"/>
              <a:ext cx="97308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ку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вар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52800" y="1470240"/>
              <a:ext cx="260280" cy="19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11720" y="1476000"/>
              <a:ext cx="0" cy="25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635280" y="1632960"/>
              <a:ext cx="65772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14960" y="1348200"/>
              <a:ext cx="10332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ількі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вдоволеного попи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09920" y="1568880"/>
              <a:ext cx="53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89200" y="1965960"/>
              <a:ext cx="464400" cy="21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над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2160" y="1149840"/>
              <a:ext cx="201708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Times New Roman"/>
                </a:rPr>
                <a:t>підсистема обслуговування покупц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93280" y="3913560"/>
              <a:ext cx="105120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N-М(зап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14640" y="1190880"/>
              <a:ext cx="7610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ідсутні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44960" y="6152040"/>
              <a:ext cx="620316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37400" y="3495960"/>
              <a:ext cx="338400" cy="12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31720" y="4163760"/>
              <a:ext cx="9432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62480" y="4861800"/>
              <a:ext cx="48780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25040" y="4371480"/>
              <a:ext cx="46980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43760" y="5114160"/>
              <a:ext cx="72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98000" y="4876560"/>
              <a:ext cx="5266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3664080" y="3481200"/>
              <a:ext cx="1504080" cy="86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19040" y="2257200"/>
              <a:ext cx="26028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99480" y="2140920"/>
              <a:ext cx="9640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ількі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доволеного попи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7320" y="2356560"/>
              <a:ext cx="536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3640" y="4951080"/>
              <a:ext cx="61236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достав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68320" y="3744360"/>
              <a:ext cx="229680" cy="2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393280" y="4671000"/>
              <a:ext cx="739440" cy="253080"/>
              <a:chOff x="2393280" y="4671000"/>
              <a:chExt cx="739440" cy="2530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32000" y="4671000"/>
                <a:ext cx="720" cy="25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393280" y="4699800"/>
                <a:ext cx="262440" cy="196920"/>
                <a:chOff x="2393280" y="4699800"/>
                <a:chExt cx="262440" cy="196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393280" y="4699800"/>
                  <a:ext cx="262440" cy="196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87600" y="4781160"/>
                  <a:ext cx="45720" cy="35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V="1">
                <a:off x="2674440" y="4752000"/>
                <a:ext cx="4428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666520" y="4845600"/>
                <a:ext cx="44172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680440" y="4695120"/>
              <a:ext cx="263160" cy="198360"/>
              <a:chOff x="5680440" y="4695120"/>
              <a:chExt cx="263160" cy="198360"/>
            </a:xfrm>
          </p:grpSpPr>
          <p:sp>
            <p:nvSpPr>
              <p:cNvPr id="337" name=""/>
              <p:cNvSpPr/>
              <p:nvPr/>
            </p:nvSpPr>
            <p:spPr>
              <a:xfrm>
                <a:off x="5680440" y="4695120"/>
                <a:ext cx="263160" cy="19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74760" y="4777200"/>
                <a:ext cx="45720" cy="3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5:25:34Z</dcterms:created>
  <dc:creator>Инна</dc:creator>
  <dc:description/>
  <dc:language>en-US</dc:language>
  <cp:lastModifiedBy>Юра</cp:lastModifiedBy>
  <dcterms:modified xsi:type="dcterms:W3CDTF">2009-09-16T13:45:44Z</dcterms:modified>
  <cp:revision>66</cp:revision>
  <dc:subject/>
  <dc:title>ІНФОРМАЦІЙНА ТЕХНОЛОГІЯ ВИЗНАЧЕННЯ ОПТИМАЛЬНИХ ПАРАМЕТРІВ УПРАВЛІННЯ ТРАНСПОРТНИМ РУХОМ ЧЕРЕЗ СВТЛОФОРНІ ОБ’ЄКТИ МІСТА</dc:title>
</cp:coreProperties>
</file>